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6CF2-A707-45F5-A960-2F17E6356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6265-25B1-413F-9EC4-EA8EEA64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6E60-C616-47D7-86D5-9C26C394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0A1F-B419-44EB-8D20-EA2FB852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3B95-920C-48B0-94A1-E68809A7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611D-3FB0-43B6-A3C0-C028409B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A545-D330-4794-A724-40005FCE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2D68-51A9-4B13-B4B0-4A850A6E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5A83-9AC4-4F2D-8459-EE9662BE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30A9-AD74-4BFC-9FE3-2D2143EE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FBF-0071-4C32-9C91-99640BA6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1AE-A91F-4349-B4EB-DF78F997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007B-2F36-4998-86C8-C88EEC135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2316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133720" y="762120"/>
            <a:ext cx="2533680" cy="2830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065960" y="4998960"/>
            <a:ext cx="478620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52280" bIns="381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June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view Personnel Evaluations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E SUPP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08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3:19:21Z</dcterms:created>
  <dc:creator>Administrator</dc:creator>
  <dc:description/>
  <dc:language>en-US</dc:language>
  <cp:lastModifiedBy>Administrator</cp:lastModifiedBy>
  <dcterms:modified xsi:type="dcterms:W3CDTF">2005-08-15T18:42:43Z</dcterms:modified>
  <cp:revision>8</cp:revision>
  <dc:subject/>
  <dc:title>Slide 1</dc:title>
</cp:coreProperties>
</file>